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F488-BC07-42FE-87DE-EE96BB0C35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8F83-3EF7-4D10-813C-6737B4E9E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icky note feedback – 10 min – end of yesterday (40 minutes 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FAC3-FFD8-400F-A3DA-5D87E9E16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Stumbling Blocks – 10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DBE3-214F-4D38-A3EA-18FBDAA48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7B4D-B76C-40E0-9930-D52AEB8DF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ed to graphical misconce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475B-D329-4B46-B22F-89442CC98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0164-0D70-42C7-9BFA-A683B62F7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4E21-16FD-4592-82F6-2DA9F7441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B0D2-5FF9-4FED-8A40-6808555EB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B175-B217-45B9-882A-6D3EB7FAA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F524-56EE-4036-8A45-374600DD1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058D-512F-4296-9DA5-CF3C1D142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F60D-2884-47BE-A2AC-52CE63378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guess on time for the BLM QR.2.1 – 30 minutes including discussion of big idea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5868-07DF-4BDA-9475-FAEA0A7AF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5AD2-A3D9-4304-9765-AFB2D7A8D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int out the assessment opportunities available during th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ox 1 min of compa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fter step 3 – ask if they notice anything (should notice that sets of 3 were always toge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Struggle: Fail to connect the graphical representation to other re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31AB-ED78-4E50-BD27-33FDAC5A5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0739-84B6-4AA5-AC98-F18DEBE3B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905B-B7D0-4598-9D0E-63DBC80C4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D4EC-C60A-4ADD-946E-EA1D8550B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F167-9139-4EE3-9FDF-D7313EC58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5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ave the groups graph their tiles by placing a dot at the top of each tile and constructing axes around it.  They should connect the dots and write an expression for their 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ick walk-about to look at the different sequences – not all will start a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research on above struggles and how introduction to quads through geometric models links quads to lin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sign each group a different relationship and repeat activity with a new piece of paper.  2 groups will do the sam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are out – changes to th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CE74-4946-439B-870E-7D2A85543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pare the graph paper ahead of time with the scale on to aid with the determination of the effect of changing the relationship on the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2A34-8D02-472E-9A52-CC2622A53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it in a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0989-CCCA-4C10-9BA0-6CAC84F33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BACC-DF6D-406E-BAF3-FDC0E0BCA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C6FE-DA27-4010-8274-4E3B92664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/Debr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part – 2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AA6E-BC7C-4264-BC1C-1852947F0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8CC2-538A-4A31-96E3-B2D3E38A7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8DD9-475D-42CB-B05C-E9AF3FE4C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earless speaking and lis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ffering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15DB-90B0-4239-9DDD-0A189F34E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8D09-B8EF-4E54-B987-0718B1E7C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3B7B-F73B-4874-B9D2-5DD30107E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eometric does still work – we will see that later today – but graphical seems friend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FB85-5500-4AA7-BEBB-66344B9E1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is animated – don’t click until the following is comple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group and people who finished their work can either: join another group to assist or cluster the expectations on the wall (i.e., same/similar expectations from across the cour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w click to reveal the statement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0 minutes in by the end of this slid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385E-5ABF-46C6-BB53-1BC0C1092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9164-E111-4164-B149-FBE21AFE1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E1F-D580-437F-B515-27EC0261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2CC-860A-47C0-A5B4-D80D33D8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4B9-A781-4972-8D47-E6DC73F6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DDE-77BE-4EBF-81E4-AADFD64D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E4A5-4F5A-4C9A-8678-07C8BA8D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F633-30A7-417B-8A55-F9692678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8E94-7F3B-4413-BE90-41B316EE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19D0-0BA5-43F2-8E81-22B8EE4E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896B-AB32-43A8-A2E2-347B71C8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D7E3-5460-432B-BA4D-0CFE7DAF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7D03-011D-439D-9CD7-A9B6669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63E-4A40-4997-926C-0CF648F3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D11-780C-472F-AD05-573E8F4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7A87-5FDC-4780-B6B0-12459C2D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85C3-977F-41BF-94D1-07B4A0CE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77BD-C8C4-4429-A5E3-21A8426C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9EDA-EBD3-4652-AFDB-6BB89593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66E-3DE5-458C-8483-EB42D913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6B5-D3FC-4412-BE73-75AEC046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89D-C2D9-46B2-95A3-31A333B1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729-F023-4736-A5C4-E245061C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D0A-82AA-4DE8-BE38-0E37F6F2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43C-0D23-4C6F-8143-D76C776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7B1-2A78-4534-9873-12401A0E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1D41-C60E-470B-A5E1-AF75D7A84C6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B508-E61A-44A0-B86C-A54EF8865AC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Tripping Over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Stumbling Bl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Gallery Walk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sticky notes, provide feedback to your colleagues on their less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me guid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How would you assess student achievement of the lesson goal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ithin the stated goal, can you think of a variety of ways for students to reach and/or demonstrate their understand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common stu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is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umbling bloc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partial understanding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one per stick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he sticky note beside the appropriate curriculum cluster or big idea o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Revisit Lesson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nvene with your group for less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sticky notes to supplement your own consideration of the struggles students normally encounter, revise and/or add to you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st you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400" y="185688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a graph as a sketch through three or four points and never consider trends in famili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rely consider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comprehend the beauty/power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sinterpreting the point (b,c) as the vertex of the standard form y=ax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about when and how to use the vertex (h,k) with the vertex form, y=x(a-h)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k, which is demonstrated through students using the same process (algebraic to graphical) regardless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840" y="190476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different, potentially conflicting algebraic and graphical schemes in the cognitive structure (the phenomenon of compartment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simultaneous evoked images for one concept, which results in cognitive conflict (e.g., quadratic function evokes quadratic formula and parabo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of why a parabola horizontally or vertically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open and prepared to communicate with students in terms of confronting, discussing, and dealing with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void sequential presentation of the forms and instead simultaneously introduce vertex and standard form, emphasize the differences between them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necting the problem to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solve problems graphically before algebraically in order to build better connections between the graph and the equation (algebraic to graphic doesn’t result in the same depth of understa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well-designed set of tasks or examples that emphasize the distinction between the quadratic formula and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4009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ish the work from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student struggles (errors, misconceptions, and partial understandings, etc) that are grounded in experience and/o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ize that different representations of relationships highlight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Recognize that different representations of relationships highlight different characteristics or behaviours and can serve different purpo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one is going to receive a graph of a quadratic relation with its equation.  The equations are given in 3 different forms (examples shown below) and we will be looking to see what information each form gives, if any, about a parabola.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3(x + 2)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– 7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(x + 4)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– 2x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+ 4x + 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x 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you believe that all of the above relations would give parabolic graphs?  Why or why no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7176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lete the information requested below the graph given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zero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compare your graphs (similarities? differenc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new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compare your graphs (similarities? differenc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only the people who have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am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chart paper record the important info about your 3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g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27436" t="40117" r="26003" b="19771"/>
          <a:stretch/>
        </p:blipFill>
        <p:spPr>
          <a:xfrm>
            <a:off x="1857240" y="3286080"/>
            <a:ext cx="5970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164268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Consolid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class decide how the chart papers should be arranged to help make patter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nformation about the graph of a parabola does each form of the equation g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-up exit card: which form do you think is most useful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28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25"/>
                            </p:stCondLst>
                            <p:childTnLst>
                              <p:par>
                                <p:cTn id="3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3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75"/>
                            </p:stCondLst>
                            <p:childTnLst>
                              <p:par>
                                <p:cTn id="3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34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900"/>
                            </p:stCondLst>
                            <p:childTnLst>
                              <p:par>
                                <p:cTn id="3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650"/>
                            </p:stCondLst>
                            <p:childTnLst>
                              <p:par>
                                <p:cTn id="4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50"/>
                            </p:stCondLst>
                            <p:childTnLst>
                              <p:par>
                                <p:cTn id="4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200"/>
                            </p:stCondLst>
                            <p:childTnLst>
                              <p:par>
                                <p:cTn id="5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700"/>
                            </p:stCondLst>
                            <p:childTnLst>
                              <p:par>
                                <p:cTn id="5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200"/>
                            </p:stCondLst>
                            <p:childTnLst>
                              <p:par>
                                <p:cTn id="6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6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700"/>
                            </p:stCondLst>
                            <p:childTnLst>
                              <p:par>
                                <p:cTn id="69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70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325"/>
                            </p:stCondLst>
                            <p:childTnLst>
                              <p:par>
                                <p:cTn id="7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7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775"/>
                            </p:stCondLst>
                            <p:childTnLst>
                              <p:par>
                                <p:cTn id="7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7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3050"/>
                            </p:stCondLst>
                            <p:childTnLst>
                              <p:par>
                                <p:cTn id="78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300"/>
                            </p:stCondLst>
                            <p:childTnLst>
                              <p:par>
                                <p:cTn id="8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700"/>
                            </p:stCondLst>
                            <p:childTnLst>
                              <p:par>
                                <p:cTn id="9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750"/>
                            </p:stCondLst>
                            <p:childTnLst>
                              <p:par>
                                <p:cTn id="96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7750"/>
                            </p:stCondLst>
                            <p:childTnLst>
                              <p:par>
                                <p:cTn id="10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8250"/>
                            </p:stCondLst>
                            <p:childTnLst>
                              <p:par>
                                <p:cTn id="10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the connections you see between the identified struggle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curriculum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suggested instructional strateg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lesson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colour tiles or cube-a-links, construct a unique square at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der these at your table by side length.  Construct additional square(s) if necessary to generate at least three squares with sequential side leng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ck the tiles vertically on the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Relationship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42680"/>
            <a:ext cx="84009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ctangle with a width equal to twice th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square that always has an additional 1 unit square attac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ctangle with a width equal to three times th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ctangle with width that is 2 units longer than th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ctangle with a width that is 3 units shorter than th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square that always has 1 square unit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rectangle with a width equal to half th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8358120" y="2428920"/>
            <a:ext cx="309600" cy="237960"/>
            <a:chOff x="8358120" y="2428920"/>
            <a:chExt cx="309600" cy="237960"/>
          </a:xfrm>
        </p:grpSpPr>
        <p:sp>
          <p:nvSpPr>
            <p:cNvPr id="153" name="Rectangle 3"/>
            <p:cNvSpPr/>
            <p:nvPr/>
          </p:nvSpPr>
          <p:spPr>
            <a:xfrm>
              <a:off x="8358120" y="2428920"/>
              <a:ext cx="22356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"/>
            <p:cNvSpPr/>
            <p:nvPr/>
          </p:nvSpPr>
          <p:spPr>
            <a:xfrm>
              <a:off x="8583480" y="2428920"/>
              <a:ext cx="84240" cy="8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480" y="1904760"/>
            <a:ext cx="8643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relationship do you see between the width and the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might students connect this learning to their understanding of linear rel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connections can you make between the geometric model and the graphical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might this help students understand transform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other insights did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Notes From the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way that the big ideas informed my thinking today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y are difficult to integrate into the current thinking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y allow for more meaningful connections to be drawn between concep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y overlap so that expectations could go under more than on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ruggling with how to express them in student friendly languag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2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25"/>
                            </p:stCondLst>
                            <p:childTnLst>
                              <p:par>
                                <p:cTn id="13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2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75"/>
                            </p:stCondLst>
                            <p:childTnLst>
                              <p:par>
                                <p:cTn id="134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900"/>
                            </p:stCondLst>
                            <p:childTnLst>
                              <p:par>
                                <p:cTn id="13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650"/>
                            </p:stCondLst>
                            <p:childTnLst>
                              <p:par>
                                <p:cTn id="14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50"/>
                            </p:stCondLst>
                            <p:childTnLst>
                              <p:par>
                                <p:cTn id="14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200"/>
                            </p:stCondLst>
                            <p:childTnLst>
                              <p:par>
                                <p:cTn id="15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700"/>
                            </p:stCondLst>
                            <p:childTnLst>
                              <p:par>
                                <p:cTn id="16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1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2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200"/>
                            </p:stCondLst>
                            <p:childTnLst>
                              <p:par>
                                <p:cTn id="16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250" autoRev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700"/>
                            </p:stCondLst>
                            <p:childTnLst>
                              <p:par>
                                <p:cTn id="170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7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325"/>
                            </p:stCondLst>
                            <p:childTnLst>
                              <p:par>
                                <p:cTn id="17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7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775"/>
                            </p:stCondLst>
                            <p:childTnLst>
                              <p:par>
                                <p:cTn id="176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7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050"/>
                            </p:stCondLst>
                            <p:childTnLst>
                              <p:par>
                                <p:cTn id="179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4300"/>
                            </p:stCondLst>
                            <p:childTnLst>
                              <p:par>
                                <p:cTn id="18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700"/>
                            </p:stCondLst>
                            <p:childTnLst>
                              <p:par>
                                <p:cTn id="19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750"/>
                            </p:stCondLst>
                            <p:childTnLst>
                              <p:par>
                                <p:cTn id="197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8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9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0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7750"/>
                            </p:stCondLst>
                            <p:childTnLst>
                              <p:par>
                                <p:cTn id="20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3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4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5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8250"/>
                            </p:stCondLst>
                            <p:childTnLst>
                              <p:par>
                                <p:cTn id="20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250" autoRev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Think Bac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specific struggles would this activity potentially address for stud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uld be done to address the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the use of manipulatives add to your problem solving strategy? understanding? ability to connect re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4009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ish the work from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student struggles (errors, misconceptions, and partial understandings, etc) that are grounded in experience and/o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ize that different representations of relationships highlight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exit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out algebra tiles from BLM QR.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Notes From the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question that I might ask of my students to address that big idea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rite an equation of a quadratic that has a vertex in the third quadran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hat does x=5 mean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Given a graph/table/expression/algebra tile representation, which are quadratic?  How do you know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Notes From the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en I teach factoring, my students seem to struggle most wi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algebraic manipulation (selecting the numbers to generate the correct sum and produc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ng the algebraic to the concret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electing the appropriate metho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on to solving equations – zeros/roo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mpleting the squar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ultiplication fac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ig Ideas for Algebraic Reason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1643040"/>
            <a:ext cx="8715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lgebraic reasoning is a process of describing and analyzing (e.g., predicting) generalized mathematical relationships and change using words and symb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paring mathematical relationships helps us see that there are classes of relationships and provides insight into each member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fferent representations of relationships (e.g., numeric, graphic, geometric, algebraic, verbal, concrete/pictorial) highlight different characteristics or behaviours, and can serve different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imited information about a mathematical relationship can sometimes, but not always, allow us to predict other information about that relationship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ig Ideas of Quadr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42680"/>
            <a:ext cx="82296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graphical, algebraic, numerical, geometric or verbal representation of a quadratic function reveals different information about the concrete/pictorial representation of the quadra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ation of the </a:t>
            </a:r>
            <a:r>
              <a:rPr b="0" lang="en-CA" sz="3200" spc="-1" strike="noStrike">
                <a:solidFill>
                  <a:srgbClr val="00b0f0"/>
                </a:solidFill>
                <a:latin typeface="Arial"/>
              </a:rPr>
              <a:t>graphica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representation allows understanding of the predictable affect of parameters on the function.  (something about transformations and combining fun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Connecting to the BI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4268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ell do the big ideas encompass the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d you think any of the expectations fit under more than 1 big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concepts develop over the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other characteristics did you notice about your clus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re anything that we can now add to /remove from our group Frayer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Less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714680"/>
            <a:ext cx="822960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Arial"/>
              </a:rPr>
              <a:t>Many people fail in life, not for lack of ability or brains or even courage but simply because they have never organized their energies around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Elbert Hubb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nk your lesson goal from last night and link it to a cluster of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et with other like-minded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lesson goal(s) on a large piece of paper and post near the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C Chilvers</cp:lastModifiedBy>
  <dcterms:modified xsi:type="dcterms:W3CDTF">2009-08-18T19:05:27Z</dcterms:modified>
  <cp:revision>166</cp:revision>
  <dc:subject/>
  <dc:title>Slide 1</dc:title>
</cp:coreProperties>
</file>